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2.pct" ContentType="image/x-pict"/>
  <Override PartName="/ppt/media/image6.jpeg" ContentType="image/jpeg"/>
  <Override PartName="/ppt/media/image8.png" ContentType="image/png"/>
  <Override PartName="/ppt/media/image10.pct" ContentType="image/x-pict"/>
  <Override PartName="/ppt/media/image7.jpeg" ContentType="image/jpeg"/>
  <Override PartName="/ppt/media/image9.png" ContentType="image/png"/>
  <Override PartName="/ppt/media/image11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C9F2-E84E-416D-B261-04EA5CD80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AACB-BB17-4D55-B132-BEA77746D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474-E3C1-47CB-A26B-119A6706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8F8-28BC-4C1B-AFF8-7A00B8BD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D5D-0787-4314-BB11-5679EEBC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59BC-3939-4516-A0FB-3F0C166C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4D82-56B2-41BA-8846-EE341944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9544-7AEB-450F-A105-ED218D12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D2A8-9480-4A0B-BCB7-6064B162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2795-017B-4173-8352-7B1E788B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A5ED-4AD8-4141-A02B-FEFBCCE1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0877-9E79-4027-8EEC-45ACA029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79EE-DA73-4C0E-B3A7-5AE6335A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891E-10BB-4AE5-9ADB-7BC032C2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79F0-1981-443A-A077-98637F59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E95C-E93F-4DB8-941D-90D98FAB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DDE4-9180-4F05-86C0-A9E9D9B0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71B5-F2EE-47B7-8293-DCCF3C57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BA86-8C6B-490B-874E-D6565835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81A8-692E-42D9-8C27-80548910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21B-101D-4D75-8146-AB6B340B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01D4-7887-4E77-84BD-34BB3EC8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61A2-C524-444D-B332-287E5F13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13C-7153-4F25-9D9D-945AFCF4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5DB4-4598-4AF9-9864-4B18E2F5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6D87-1A56-45D3-9E28-559B1C48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E522-3C09-417D-8A72-6865873E80C0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9576-AC90-40FA-A394-235196447582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lluminate.iu13.org:80/recordings.html?s=1205294400000&amp;e=1205380799999&amp;sort_column=date&amp;change_direction=false&amp;page=0" TargetMode="External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hitch.at/" TargetMode="External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usic/iTunes/iTunes%20Music/Movies/uwtv_vidcon_ipodv.m4v" TargetMode="External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econdlife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iziq.com/content" TargetMode="External"/><Relationship Id="rId3" Type="http://schemas.openxmlformats.org/officeDocument/2006/relationships/hyperlink" Target="http://www.wiziq.com/Member/Tags.aspx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Online Learning Environmen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828800" y="38098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oey Shelle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an Crook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im McCormic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282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 the absence of firm policy guidance, the nation is rushing pell-mell toward an ad hoc system of education that exacerbates existing disparities and cannot assure a high standard of education across new models of instruction.”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tional Association of State Boards of Educ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42640" y="609480"/>
            <a:ext cx="7543800" cy="5486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28600" y="38088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ommunication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"/>
          <p:cNvSpPr txBox="1"/>
          <p:nvPr/>
        </p:nvSpPr>
        <p:spPr>
          <a:xfrm rot="1092000">
            <a:off x="4952520" y="2438280"/>
            <a:ext cx="1397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mai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6__x0016_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472428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lassroom Management Syst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6200" y="3808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47920" y="3809880"/>
            <a:ext cx="4114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KY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 rot="19388400">
            <a:off x="5181480" y="3429000"/>
            <a:ext cx="4114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deo Conferenc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 rot="1490400">
            <a:off x="228240" y="1143000"/>
            <a:ext cx="4267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ebina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3000" y="5562720"/>
            <a:ext cx="39625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48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ssage Boar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 rot="619800">
            <a:off x="4648320" y="5562720"/>
            <a:ext cx="4114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2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nline Tutoring/ Less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2280" y="3048120"/>
            <a:ext cx="4114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rtual Reali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5120" y="6091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Elluminate / Breez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3697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binar Progra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reates a virtual meeting roo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low users to record, share, and communicat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rebuchet MS"/>
                <a:hlinkClick r:id="rId2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72000" y="1828800"/>
            <a:ext cx="4572000" cy="426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KYP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89600" y="2133720"/>
            <a:ext cx="3697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ree calling, conferencing, video phone, file transfer and instant messaging servi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lows user to communicate with anyone in the world for FREE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3697200" cy="3670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hitch.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3697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nline classroom management syste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lows teachers to post and share less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t lessons or projects for stude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t flash cards to aid study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3429000"/>
            <a:ext cx="434340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120" y="6091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Video Conferencing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89600" y="2133720"/>
            <a:ext cx="3697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llycom syste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llaborate with others using high quality video communic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irtual field trips and NASA progra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rebuchet MS"/>
                <a:hlinkClick r:id="rId2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28600" y="1676520"/>
            <a:ext cx="4419720" cy="47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nline Learning Environment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rowing, growing, grow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etting start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ticking it ou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d the dividen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Buddy School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ows students to find specialized tutors onlin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unicate through AIM, Skype, GoogleTalk, etc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yment is made through Buddy School syste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tudents seek and request less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Trebuchet MS"/>
                <a:hlinkClick r:id="rId2"/>
              </a:rPr>
              <a:t>Second Lif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virtual worl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n?)Equal parts video game/classroo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useums, Classrooms, Churches, etc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till a work-in-progres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 premier platform for an affordable online tutoring”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2666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esentation</a:t>
            </a:r>
            <a:r>
              <a:rPr b="0" lang="en-US" sz="2800" spc="-1" strike="noStrike">
                <a:solidFill>
                  <a:srgbClr val="898989"/>
                </a:solidFill>
                <a:latin typeface="Trebuchet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rebuchet MS"/>
                <a:hlinkClick r:id="rId2"/>
              </a:rPr>
              <a:t>Upload/Download</a:t>
            </a:r>
            <a:r>
              <a:rPr b="0" lang="en-US" sz="2800" spc="-1" strike="noStrike" u="sng">
                <a:solidFill>
                  <a:srgbClr val="898989"/>
                </a:solidFill>
                <a:uFillTx/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r create own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533520" y="3657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ed Subject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alibri"/>
                <a:hlinkClick r:id="rId3"/>
              </a:rPr>
              <a:t>Member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533520" y="46483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edule Study S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533520" y="57150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ine Tests: take others or make your 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8" descr="footer_index_05.gif"/>
          <p:cNvPicPr/>
          <p:nvPr/>
        </p:nvPicPr>
        <p:blipFill>
          <a:blip r:embed="rId4"/>
          <a:stretch/>
        </p:blipFill>
        <p:spPr>
          <a:xfrm>
            <a:off x="2835360" y="152280"/>
            <a:ext cx="2651040" cy="947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-36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Inbox for message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Privacy Options: choose availability for interaction with other member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Public Session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Collect contacts and share worldwid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Import class and create learning environment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Wiz iQ for Moodle: schedule live classes and mor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4" name="Picture 3" descr="footer_index_05.gif"/>
          <p:cNvPicPr/>
          <p:nvPr/>
        </p:nvPicPr>
        <p:blipFill>
          <a:blip r:embed="rId2"/>
          <a:stretch/>
        </p:blipFill>
        <p:spPr>
          <a:xfrm>
            <a:off x="2895480" y="228600"/>
            <a:ext cx="256068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rebuchet MS"/>
              </a:rPr>
              <a:t>Rosetta Ston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13712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Trebuchet MS"/>
              </a:rPr>
              <a:t>Online Subscription 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6 months: $159.95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12 months: $259.95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Offers 30 language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Uses Dynamic Immersion  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Rosetta Stone Classroom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7" name="Picture 7" descr="p31-p38-speech-an-NEW.gif"/>
          <p:cNvPicPr/>
          <p:nvPr/>
        </p:nvPicPr>
        <p:blipFill>
          <a:blip r:embed="rId2"/>
          <a:stretch/>
        </p:blipFill>
        <p:spPr>
          <a:xfrm>
            <a:off x="4800600" y="1676520"/>
            <a:ext cx="3657600" cy="299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headers-RUS.jpg"/>
          <p:cNvPicPr/>
          <p:nvPr/>
        </p:nvPicPr>
        <p:blipFill>
          <a:blip r:embed="rId3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Content Placeholder 3" descr="Computer.jpg"/>
          <p:cNvPicPr/>
          <p:nvPr/>
        </p:nvPicPr>
        <p:blipFill>
          <a:blip r:embed="rId2"/>
          <a:stretch/>
        </p:blipFill>
        <p:spPr>
          <a:xfrm>
            <a:off x="6248520" y="3809880"/>
            <a:ext cx="2496960" cy="26672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762120" y="312408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2362320" y="304920"/>
            <a:ext cx="5105160" cy="48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Online learning environments promot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tion- with everything being documented educators know who is contributing and who is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reased diversity of subject mat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exible sche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fessional development opportunities for educ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lobal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cessibility to teacher…frequent feedback and easy information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3505320" y="3809880"/>
            <a:ext cx="5638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1" descr="04_34_12---Computer-Keyboard_web.jpg"/>
          <p:cNvPicPr/>
          <p:nvPr/>
        </p:nvPicPr>
        <p:blipFill>
          <a:blip r:embed="rId3"/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2"/>
          <p:cNvSpPr/>
          <p:nvPr/>
        </p:nvSpPr>
        <p:spPr>
          <a:xfrm>
            <a:off x="2362320" y="3809880"/>
            <a:ext cx="380988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Probl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ny policies are not updated enough to have particulars concerning onl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aching methods are still relatively new with much room for expl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treme caution must be used; the Internet is a dangerous 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vailability of internet to stude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echnological Problem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ime for Staff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6" name="Picture 3" descr="header_sub_nacol.jpg"/>
          <p:cNvPicPr/>
          <p:nvPr/>
        </p:nvPicPr>
        <p:blipFill>
          <a:blip r:embed="rId2"/>
          <a:stretch/>
        </p:blipFill>
        <p:spPr>
          <a:xfrm>
            <a:off x="0" y="5791320"/>
            <a:ext cx="3429000" cy="10666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4093560" y="6095880"/>
            <a:ext cx="40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co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org/docs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ion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report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9:04:17Z</dcterms:created>
  <dc:creator> </dc:creator>
  <dc:description/>
  <dc:language>en-US</dc:language>
  <cp:lastModifiedBy>Office 2004 Test Drive User</cp:lastModifiedBy>
  <dcterms:modified xsi:type="dcterms:W3CDTF">2008-03-18T11:34:14Z</dcterms:modified>
  <cp:revision>5</cp:revision>
  <dc:subject/>
  <dc:title>Online Learning Environments</dc:title>
</cp:coreProperties>
</file>